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031C-69E8-4E03-A5E8-FD544D9DF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0B6-DB42-4931-9A05-71168CF1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D23-C5CD-4943-A8D6-8C211C0EA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27C-35C5-45DE-9506-088B6E66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E7E8-562E-49D9-BC97-0868E215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41EF-8C88-4CAC-A263-CF174D27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3FF-2225-4D67-8467-B8DA4CB7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365-F3A2-4400-AB4E-8370A0ED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F0A-4BF2-42EE-AF45-1C9D44F4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8A8-0FF2-498B-9E50-B3EE6F47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E25-9EBC-4DAB-BC32-F75248A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A5BF-AAB3-4EB9-91D8-E4E44D58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AEA8-B6ED-4420-BB94-0B03A110A2E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ambria"/>
              </a:rPr>
              <a:t>Агрессия и агрессивность. Агрессивное поведение ребенка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Скругленный прямоугольник 4">
            <a:hlinkClick r:id="rId1"/>
          </p:cNvPr>
          <p:cNvSpPr/>
          <p:nvPr/>
        </p:nvSpPr>
        <p:spPr>
          <a:xfrm flipV="1">
            <a:off x="4000680" y="6832440"/>
            <a:ext cx="35712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67.jpg"/>
          <p:cNvPicPr/>
          <p:nvPr/>
        </p:nvPicPr>
        <p:blipFill>
          <a:blip r:embed="rId2"/>
          <a:stretch/>
        </p:blipFill>
        <p:spPr>
          <a:xfrm>
            <a:off x="1122480" y="2762280"/>
            <a:ext cx="65466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Если поведение наблюдается более 6-и месяцев и включает в себя симптом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Ребенок проявляет для своего возраста необычные частые или тяжелые вспышки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активно отказывается выполнять требования взрослых или нарушает их прави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меренно делает вещи, которые досаждают другим люд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920" y="1196640"/>
            <a:ext cx="864216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Часто обвиняет других в своих ошибках или пове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Часто обидчив или ему легко досад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Часто сердится или негоду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Часто злобен или мстите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Часто обманывает или нарушает обещания для получения выгоды или уклонения от обязатель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Часто затевает драки (сюда не относятся драки с сестрами и братьям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Использует оружие, которое способно причинить физический вред другим (клюшку, кирпич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атологическое агрессивное поведение – психическое расстройств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557360"/>
            <a:ext cx="8642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Проявляет физическую жестокость по отношению к другим людям или животным (связывает жертву, наносит порезы, ожо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физическ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обычно активные, деятельные, целеустремленные, склонные к риску и авантюризму, честолюбивые и стремящиеся к общественному признанию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ербальной агресси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(неуравновешанные, тревожные, сомневающиеся, неуверенные, со сниженным фоном настроения, обидчивы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арианты проявления детской агрессивност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50920" y="119700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Дети, склонные к проявлению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косвенной агрессии-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ребенок сплетничает, ябедничает, провоцирует сверстников  (слабый самоконтроль, импульсивность, низкая осознанность своих поступков, не задумываются о причинах своих поступков, примитивные влечения и низкие духовные интерес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-360" y="1557000"/>
            <a:ext cx="88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Стремление подавлять всяческие проявления детской агрессивности.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Для большинства взрослых агрессия – насилие. Поэтому идет запрет на игры  и фантазии с проявлением враждебности.   Дети подавляют свои мысли, эмоции. Подавленная агрессия копится (не исчезает) и однажды вырывается наружу в виде яростного взры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 – направлять агрессию в нужное русло, учить проявлять агрессию приемлемыми способами, учить ребенка проводить необходимую грань между допустимым проявлением агрессии и непозволительным, соизмерять силу своей агресс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Чрезмерно предупредительные родители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формируют стереотип агрессивного поведения у ребенка. Ребенок за счет агрессии получает нужный результат. При малейшем промедлении его желаний он начинает кричать, топать ногами и пр.  Стереотип закрепляясь дома, переносится в другой социу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– найти ошибки, пересмотреть стиль воспитания ребенка, формировать новый стереоти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Родители эмоционально отвергают ребенка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, относятся к нему пренебрежительно, негативно или никак. Это рождает страх, потом агрессию. Оторванность (надолго) от матерей в раннем возрасте, холодность матери в отношении своего ребенка  ведет к возможности эмоциональной разрядки через агрессию и привлечении внимания. Альтернативный вариант – замкнутый, тревожный, безынициативный ребенок, готовый подчиниться всем и каждом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Попадая в ситуацию неудовлетворения своих потребностей ребенок пытается изменить ситуацию при помощи агрессивного поведения, и если это ему удается неоднократно, стереотип закрепляетс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ризнать чувства ребенка, дать им выход, научить приемлемым способам, формировать у ребенка умения справится с ситуацией – внутренний самоконтр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шибки родителей, влияющие на формирование агрессивности и агрессивного поведени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78920" y="1557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Демонстрация агрессивного поведения со стороны родителей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. В наших детях мы больше всего не любим черты, которые нам не нравятся в нас самих. Если ребенок копирует наше поведение, то получает неодобрительные замечания ,  угрозы, наказ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Выход: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понимание и узнавание в агрессивном поведении ребенка себ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аш ребенок    </a:t>
            </a:r>
            <a:r>
              <a:rPr b="1" lang="ru-RU" sz="2800" spc="-1" strike="noStrike">
                <a:solidFill>
                  <a:srgbClr val="800000"/>
                </a:solidFill>
                <a:latin typeface="Calibri"/>
              </a:rPr>
              <a:t>( часто   иногда   нет 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может промолчать, когда чем-то недовол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гда кто-то причинит ему зло, старается отплатить ему тем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спорит, ругается со взросл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н не прочь подразнить живот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чень сердится, если ему кажется, что кто-то подшучивает над н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ворчли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оспринимает себя как самостоятельного и решительног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Какие дети вырастают агрессивными наиболее часто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«Кумиры семьи» - выросшие без отцов, в сплошном женском окружении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им авторитарным отцом и мягкой, уступчивой матерью (механизм идентификации с отцом)  - мальч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емьи с жесткой, авторитарной матерью при мягком, уступчивом отце (срабатывает механизм идентификации с матерью) – девоч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вочки, предоставленные сами себе и самостоятельно пробивающиеся в жизни (агрессивность для выживан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64072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mbria"/>
              </a:rPr>
              <a:t>Агрессивные дети, как правило, вырастают в семьях, где дистанция между родителями и детьми огромна, где мало интересуются развитием детей, где не хватает тепла и ласки, отношение к проявлению детской агрессивности безразличное или снисходительное, где в качестве дисциплинарных воздействий вместо заботы и терпеливого объяснения предпочитают силовые методы, особенно физические наказания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Вопросы для себя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920" y="980640"/>
            <a:ext cx="85341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то стоит за агрессивность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чему он так себя вед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верен ли мой ребенок, что единственный путь получить желаемое – это вести себя агрессивно или таким образом он старается наказать того, на кого рассердил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умает ли он, что именно так должен вести себя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Знает ли он другие формы проявления гне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Могу ли я научить его другому поведению (формирование новых стереотип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Способы выражения гнева (важно, чтобы агрессия не накапливалась)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78920" y="1412640"/>
            <a:ext cx="8534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Громко спеть любимую песн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метать дроти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прыгать на скакал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уя «стаканчик для криков», высказать свои отрицательные эмо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оксерская груш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ыстрыми движениями стереть с до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обеж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жаться от по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омкать листки бумаги, выброси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делать 10-12 глубоких вдохов и выдох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Формирование у себя умения прислушиваться к чувствам ребенка и описывая свое эмоциональное состояние (я сержусь, мне обидно и пр  - такие чувства естественны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Поощрять развитие умений слышать себя у ребе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601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Во время агрессии ребенка ощущать собственную уверенность, амортизировать ситуацию, помня, что в основе агрессивного поведения лежит неуверенность (затем – я вижу, что ты сейчас сердишься, в таком состоянии мы не найдем решение, я предлагаю тебе успокоиться – использовать технику «заезженной пластинки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Приемы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78920" y="836280"/>
            <a:ext cx="8534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Важно перенаправить агрессию в нужное русло (работа по дому, сломать палки, физическая нагрузка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Видеть внешние признаки агрессии: сдерживает дыхание, скованность в груди, напряженность в руках, сжаты кулаки, закрывает глаза и пр. – увидев проявления, спросить: «Ты сейчас сердишься, может хочешь побыть один или расскажешь, что происходи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Обучать технике «Я-высказыва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8920" y="1268280"/>
            <a:ext cx="85345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покойное отношение в случае незначительной агрессии (агрессия неопасна и объясним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- полное игнорирование реакций ребенка – весьма мощный способ прекращения нежелатель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ражение понимания чувств ребенка (конечно, тебе обид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ереключение внимания, предложение какого-то занятия – дви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зитивное обозначение поведения (ты злишься, потому, что ты уста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Акцентирование внимания на поступках (поведении), а не на личности – техника объективного описания поведения ребенка: как вел, что делал, какие действия совершал, без оценок, без эмоций, только конкретные факты про здесь и сейчас, без прошлых проступков. При этом важно быть заинтересованными, доброжелательными, твердыми – ребенок должен понять, что родители его любят, но против того, как он себя ведет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Контроль над собственными негативными эмоциями. Управлять своим естественными эмоциями (раздражением, гневом, возмущением, беспомощность) , сохранять доброжелательность, не подкреплять агрессивное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4. Снижение напряжения ситуации. Не допускать следующего повед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ие голоса, изменение тона на угрожающ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Демонстрация власти(как я скажу, так и буде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рик, негод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ые позы и жесты, сарказм, насмеш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гативная оценка личност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спользование физической си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8. Любит быть первым, командовать и подчинять себе друг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9. Неудачи вызывают у него сильное раздражение и поиски виноват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Легко ссорится, вступает в драк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Старается общаться с младшими и физически более слабы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Уверен, что любое задание он выполнит лучше все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Он часто теряет контроль над соб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Он часто винит других в своих оши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тягивание в конфликт посторонних люд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преклонное настаивание на своей прав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отации, проповед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аказания или угроз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бобщения типа «вы все одинаков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Команды, жесткие требования, давл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авнение ребенка с други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правдания, подкупы, награ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78920" y="1557000"/>
            <a:ext cx="8534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5. Обсуждение проступка. Только после того, как ситуация разрешится и все успокоятся. Наедине, без свидетелей, с объективностью и спокойствием. Обсудить негативные последствия агрессивного поведения, его разрушительность для других и для самого ребен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Экстренное вмешательство при агрессивных проявлениях в конфликтной ситуации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26920" y="1557360"/>
            <a:ext cx="7886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6. Сохранение положительной репутации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7. Демонстрация модели неагрессивного по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нкета «Признаки агрессивности»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Часто – 1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Иногда – 0,5 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ет – 0 бал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ысокая агрессивность – 8-14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редняя агрессивность – 5-7 бал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ая агрессивность – 1-4 бал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Бед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римитивность ценностных ориент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тсутствие увлеч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Узость и неустойчивость интере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Низкий уровень интеллекту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Повышенная внушае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Склонность к подражатель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Ограниченность нравственных представл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Эмоциональная груб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4000" y="980640"/>
            <a:ext cx="849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0. Односторонняя самооценка (максимально положительная или максимально отрицательна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1. Повышенная тревож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2. Страх перед широкими социальными контакт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3. Эгоцентр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4. Неумение находить выход из трудных ситуац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5. Преобладание защитных механизмов над другими механизмами, регулирующими повед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Особенности личностных характеристик агрессивных детей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28280"/>
            <a:ext cx="8820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6. Повышенная возбудимость нервной системы вследствие различных причин (травмы, болезн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Вместе с тем, среди агрессивных детей встречаются дети с высоким интеллектом, социально развитые – для них агрессивность – средство поднятия престижа, демонстрация самостоятельност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вные действия выступают в качестве: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557360"/>
            <a:ext cx="7561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1. Средства достижения какой-либо значимой цел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2. Способа психологической разряд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3. Способа удовлетворения потребностей в самореализации и самоутвержден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ambria"/>
              </a:rPr>
              <a:t>Агрессия, агрессивность, агрессивное поведение</a:t>
            </a:r>
            <a:endParaRPr b="0" lang="en-US" sz="29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я – индивидуальное или коллективное  поведение, действие, направленное на нанесение физического или психологического вреда, ущерб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сть – более сложная структура психических свойств человека, отражающая предрасположенность к агрессивным дейст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Calibri"/>
              </a:rPr>
              <a:t>Агрессивное поведение – серия агрессивных действ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06:25:31Z</dcterms:created>
  <dc:creator>Психологи</dc:creator>
  <dc:description/>
  <dc:language>en-US</dc:language>
  <cp:lastModifiedBy>Otter</cp:lastModifiedBy>
  <dcterms:modified xsi:type="dcterms:W3CDTF">2022-01-25T07:11:35Z</dcterms:modified>
  <cp:revision>38</cp:revision>
  <dc:subject/>
  <dc:title>Агрессия и агрессивность. Особенности агрессивных детей.</dc:title>
</cp:coreProperties>
</file>